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CF1C-BEEF-4380-B437-9101234C3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file:///E:/Curriculum_Resource_CD/Resources/Internet_Resources/Project-Based_Learning_Resources.htm" TargetMode="External"/><Relationship Id="rId2" Type="http://schemas.openxmlformats.org/officeDocument/2006/relationships/hyperlink" Target="file:///E:/Curriculum_Resource_CD/Resources/Internet_Resources/Login_Information.doc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ofesorii sunt mai mult decât instructori— ei sunt facilitatori ai procesului de învăţare, implementatori, evaluatori şi proiectanţi ai lecţiilor predate în cadrul unităţii de învăţ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CD Resur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Realizare scurtatura pe desktop (+varianta din My Comput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CD Resurse şi prezentare mod de navigare butoane şi meni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Deschidere HelpGuide (din pag principala a CD resurse sau din fold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meniu şi a modului de navig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Ca aplicaţie intru în Essential Course şi le arăt cum să urmărească paşii pentru realizarea structurii de directo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Se recomandă listarea structurii complete de la pag 1.07 şi a listei de verificare a portofoliulu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1.08)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pentru a lucra în mod eficient în continu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pentru completarea cerinţel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2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(lectură) - 3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entru a avea succes, Unităţile de învăţare trebuie proiectate cu scopul final în minte şi trebuie organizate în jurul unor concepte importa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lanificarea unităţii de învăţare nu este liniară; ea include întotdeauna întoarcerea la pasul anterior aşa cum este indicat în gra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: răspunsul la întrebări şi completarea tabelulu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oiectele care oferă mai multe oportunităţi de învăţare pot fi semnificativ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iferite în ceea ce priveşte aria tematică sau scopul şi pot fi aplicate la clase diferite şi la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i multe niveluri de studiu. Proiectele angajează elevii în roluri active, cum ar fi rol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elui car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zolvă probleme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a decizia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vestighează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ocumentează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În timp ce lucrează la proiecte, elevii îşi dezvoltă abilităţi reale, corespunzătoare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olului XXI— multe din acestea fiind solicitate de angajatorii din zilele noastre—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um ar fi capacitatea 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cra bine cu ceilalţ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lua decizii bine gând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avea iniţiativ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rezolva probleme complex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uto-direcţion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 comunica efic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işă de lucru în directoru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a 4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Lista site-urilor de marcar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etichetare se găseşte în directorul Resurse – Resurse Internet de pe CD-ul cu 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şi a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roject-Based Learning Resources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şi a formularului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Login In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 site Int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5 min = Planificare în avans – Pas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Ghidare la intrarea pe blog si la completarea acestui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Muncă independentă – completare pasul 2 şi 3 (pasul 1 este completat dej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1999, the Intel Teach Program has helped over 4 million educators in more than 35 countr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goal of 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se Foc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hemes of the Essentials Course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ing technology effectively in the classroom to promote 21st century ski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Prezentarea abilităţilor necesare în secolul XXI – 1.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istă de abilităţi ale secolului XXI este prezentată în detaliu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</a:t>
            </a:r>
            <a:r>
              <a:rPr b="0" i="1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ctivitatea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 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in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aplicaţii ale elevilor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 înţeleg toate tipurile de materiale (publicaţii , prezentări, wiki sau blog) realizate de către profesori din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erspectiva elevilor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abel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ul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este disponibil în directorul </a:t>
            </a: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Modulul 1, Activitate 1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e pe CD-ul cu</a:t>
            </a: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surse curricul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F469-82C7-4B0B-8937-B78666F7A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E2F5-AD55-4951-BD24-904E24B1B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F3D9-8702-4C84-982F-69810E3F6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7E46-DE42-4892-806E-50C510D4E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CE37-3015-473D-AA2D-BBB1CB5DB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587E-D32D-4207-A40E-041366151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602C-A15C-4DD4-A2B2-D2048D47B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7D73-D7B8-4A5E-A293-8F64321C2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805B-7BF6-47B0-AB5F-71EC04ABD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15D1-7193-4E3D-B2AD-89F69BF96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6227-6BD3-4037-9067-6A2668010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039C-6291-4058-8049-F963A0E25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0290-CE4D-40D3-8B60-16D5B9EB637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DesignProject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igo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DesignProject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759720" y="0"/>
            <a:ext cx="177480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93680" y="4809960"/>
            <a:ext cx="895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ntel®Teach 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–</a:t>
            </a:r>
            <a:br>
              <a:rPr sz="3600"/>
            </a:br>
            <a:r>
              <a:rPr b="1" lang="ro-RO" sz="3600" spc="-1" strike="noStrike">
                <a:solidFill>
                  <a:srgbClr val="ffffff"/>
                </a:solidFill>
                <a:latin typeface="Verdana"/>
                <a:ea typeface="Arial"/>
              </a:rPr>
              <a:t>Predarea în societatea cunoaşteri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4760" y="1182600"/>
            <a:ext cx="8469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Noile roluri ale profesor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5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În cadrul acestui curs veţi proiecta şi dezvolta resurse pentru unitatea de învăţare pe care o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edaţ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tatea poate varia, ca durată, între câteva săptămâni şi mai multe luni, dar trebu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ă facă referire la un domeniu cheie din programa şcolar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rtofoliul dumneavoastră est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zvoltat pe parcursul celor opt module ale cursului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1939-8059-4E55-835E-2260DB068E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46240" y="846000"/>
            <a:ext cx="458784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4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Crearea directorului Portofoli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6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Utilizarea Intel® Ghid de asistenţ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această resursă digitală veţi găsi instrucţiuni pas cu pas cu privire la modul de finalizare al abilităţilor tehnic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uteţi utiliza Intel® Ghid de asistenţă pentru a afla în mod rapid cum se realizează anumite operaţiuni pe calculator în momentul în care acestea trebuie efectuat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tel® Ghid de asistenţă reprezintă o resursă valoroasă disponibilă atât pe parcursul participării la acest curs cât şi în viito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34080" y="0"/>
            <a:ext cx="4309920" cy="5996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DDC0-82C7-4120-AF96-DF981A8332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4760" y="988560"/>
            <a:ext cx="809136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Realizarea directorului Portofoliu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6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directorul Portofoliu după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tructura alăturată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7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sultaţi lista de verificare a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ortofoli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1.08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 acest curs veţi crea toate elemente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enţiona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este elemente formează împreună un Portofoliu pentru o unitate de învăţare completă.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e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liza revizuiri ale produselor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le creaţi împreună c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echipierii dumneavoastr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56080" y="257040"/>
            <a:ext cx="3787920" cy="40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E31D-5379-44D6-8396-F2840A2986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34080" y="0"/>
            <a:ext cx="4309920" cy="5996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704880"/>
            <a:ext cx="42876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5: Vizualizarea Şablonului Planului Unităţii de învăţare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0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curtătură pentru documentul „Start”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acă nu aţi făcut-o dej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rniţi CD-ul cu resurse curricular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lvaţi şablon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lanului Unităţii de învăţare în directorul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lan_unitate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n portofoliul dumneavoast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format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planului de unitate de învăţare, revizuiţ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pid diversele secţiuni şi notaţi descrierile în câmpurile a căr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are vă este solicitată.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0 – 1.11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C862-AC3C-4A56-9C35-FE9E38C714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08640" y="1039680"/>
            <a:ext cx="45640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3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operirea în profunzime a conţinutulu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dei importante referitoare la organizarea înţelegeri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aluare continu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rcini de lucru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929C-7991-4229-A849-4B9582153B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535200" y="0"/>
            <a:ext cx="55375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vizuirea documentării -Învăţarea prin proiecte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zvoltă cunoştinţe, abilităţi şi atitudini într-o arie tematică pri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arcini de lucru extin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omovează investigaţia, demonstraţii autentice al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duselor învăţării şi performanţelor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legătura dintre obiectivele operaţionale ş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gândirea de nivel superior a elevilor cu contexte de viaţă real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nclu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strategii instrucţional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variate care îi implică pe elevi indiferent de stilul lor de învăţar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Deseori, elev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olaborează cu experţi din exterior sau cu membri ai comunităţ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iliz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hnologi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entru a sprijin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învăţa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U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tiliz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z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ă diferite metode 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 pentru a asigura calitatea în procesul de învăţar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Vizualizaţi beneficiile prezentate la pag. 1.1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11580" b="0"/>
          <a:stretch/>
        </p:blipFill>
        <p:spPr>
          <a:xfrm>
            <a:off x="0" y="406440"/>
            <a:ext cx="3514680" cy="5619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80" y="0"/>
            <a:ext cx="370836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0086-BB34-4C41-AAD7-1FB931BBFE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4760" y="1050840"/>
            <a:ext cx="84693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naliza planificării Unităţii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5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 parcurs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ui curs veţi realiza un Portofoliu de Unitate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in parcurge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rmătoarelor etap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Stabilirea obiectivelor operaţionale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rnind de la competenţele specifice/obiectivele de referinţă şi abilităţile necesare în secolului XX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2. Dezvoltarea de întrebări generatoare a proiectelor inter-pluri-transdisciplinare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ntru a -i ajuta pe elevi să se axeze pe teme şi concepte importante care vizeaz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exiunile între discipline şi a acestora cu viaţa real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3. Planificarea evaluări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să demonstreze centrarea pe procesul de învăţ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l elevilor prin evaluări continu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4. Activităţi de proiectar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să includă nevoile de învăţare ale elevilor, să fac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egătura cu lumea exterioară şi să includă activităţi care implică utilizarea tehnologie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A305-BB2E-44C8-BDD6-EA13AC4342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52720" y="177840"/>
            <a:ext cx="6191280" cy="5486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5680" y="863640"/>
            <a:ext cx="3849840" cy="3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ctivitatea 2 - Examinarea unui proiect de instruire bu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293760" y="3672000"/>
            <a:ext cx="5056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re sunt paşii despre care cunoaşteţi cel mai mul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re sunt domeniile despre care trebuie să aflaţi mai multe 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ompletaţi tabelul de la pag. 1.1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8BB3-5F34-48D5-B0E8-0498E480C6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95840" y="1039680"/>
            <a:ext cx="43768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2 -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aminarea unui proiect de instruire b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3: Revizuirea cerinţelor de întocmire a Portofoliului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1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Vizualizaţi cerinţele de realizare a Portofoliului. (1.18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idenţiaţi sau subliniaţi zonele din grila de cerinţe care se referă la obiectivele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le-aţi identificat la pasul 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A25A-58A7-408B-92D6-0A4DCC600F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4400" y="790200"/>
            <a:ext cx="8769240" cy="51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(1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0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Listă de verificare a caracteristicilor proiectulu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levii se află în centrul procesului de instrui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se axează pe obiectivele operaţionale aliniate competenţelor specifice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espectiv obiectivelor de referinţ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este generat de întrebări esenţiale, de unitate şi de conţinu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implică metode de evaluare multiple şi continu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implică sarcini de lucru şi activităţi conectate, care se desfăşoară într-o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numită perioadă de timp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iectul are conexiuni cu lumea reală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levii îşi demonstrează cunoştinţele şi abilităţile prin intermediul performări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priu-zise şi a produselor care sunt publicate, prezentate sau afişat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ehnologia sprijină şi îmbunătăţeşte procesul de învăţare al elevilor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bilităţile de gândire de nivel superior sunt incluse în activitatea de proiect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􀂆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Strategiile de instruire variate sprijină diverse stiluri de învăţare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E03A-91F0-4004-90D0-C45EA8DA58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06000" y="5387760"/>
            <a:ext cx="793764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odul 1 –Predarea prin proiecte</a:t>
            </a:r>
            <a:br>
              <a:rPr sz="1300"/>
            </a:br>
            <a:r>
              <a:rPr b="0" lang="en-US" sz="13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endParaRPr b="1" lang="en-US" sz="13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BFB4-B694-4353-98DB-F7F5BA9763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2520" y="531360"/>
            <a:ext cx="8566200" cy="32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Activitatea 3 - Analizarea proiectel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văţarea pe bază de proiec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u toate unităţile de învăţare trebuie să includă un proiect, însă în momentul în car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învăţarea pe bază de proiect este adecvată, integrarea unui proiect poate stimul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mnificativ învăţarea 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ista nivele diferite ale modelării proiecte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azate pe proiect de la început până la sfârşi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lud un proiect ca şi experienţă culminantă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clud un proiect într-un anumit segment al unităţi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82520" y="3784680"/>
            <a:ext cx="896148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Vizualizarea Portofoliil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portofoliile situate în directorul Portofolii ale Unităţii Eşantion de p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D-ul de resur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au vizualizaţi exemplele de pe site-ul web Intel® Education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DesignProjects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aţi în considerare modul în care acest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bordează diversele elemente din lista de verificare a caracteristicilor proiectulu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În ce mod au fost incorporate proiectele în unităţile de învăţa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m aţi putea utiliza ideile de proiect pentru a îmbunătăţi predarea unităţii 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învăţare select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CCDC-8722-419A-A606-55C857163B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4960" y="803160"/>
            <a:ext cx="836280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3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iec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i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ublicaţia pentru a prezent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eptul de proiect unui public cum ar fi elev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umneavoastră, părinţii acestora sau alţi membri ai comunităţii şcolare posibil interesaţ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ândiţi-vă la modul în care utilizaţi în prezent metoda proiectului în instruire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iectaţi-vă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ublicaţia astfel încât să răspundă întrebărilor pe care consideraţi că vi le vor adresa elev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au părinţii acestora.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ezentarea publicaţiei la începutul unităţii de învăţare poate ajuta l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tabilirea aşteptărilor şi la pregătirea elevilor pentru activităţile ulterio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46A2-3C45-4964-869A-A37D84E320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Documentarea cu privire la învăţarea bazată pe proiec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4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Înregistraţi-vă pentru crearea unui cont.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diigo.com</a:t>
            </a:r>
            <a:r>
              <a:rPr b="0" lang="ro-RO" sz="1800" spc="-1" strike="noStrike">
                <a:solidFill>
                  <a:srgbClr val="0c2e8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emplific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lick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y Tools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lick dreapta pe pictogram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igolet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şi în funcţie de tipul de brows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5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et Explor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*: Add to favorites…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dăugaţi î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Links folde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51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zilla Firefox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*: Bookmark This Link…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dăugaţi î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Bookmarks Folde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uteţi folos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860a8"/>
                </a:solidFill>
                <a:latin typeface="Verdana"/>
              </a:rPr>
              <a:t>diigolet bookmarkle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marca, salva, adăuga notiţe sau transmite pe mail pagini web sau doar zonele selectat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2411-621F-459C-ACD1-50B28D2CC0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4: Proiectarea unei publicaţii pentru explicarea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roiecte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Documentarea cu privire la învăţarea bazată pe proiect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nt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plicaţi asupra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DesignProjec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u fişierul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„Resurse educaţionale pe bază de proiect”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din directorul Resurse – Resurse Internet de pe CD-ul cu resurse curricul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arcaţi şi etichetaţi paginile în care găsiţi resurse pentru proiectul dumneavoastră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ul 3: Vizualizarea exemplelor de publicaţi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5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zualizaţi exemplele de publicaţii de pe CD-ul cu resurse pentru idei cu privire la design-ul şi conţinut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priei publicaţii (buletin informativ, ziar, broşură sau afiş)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-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rectorul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odulul 1, Activitatea 4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 pe CD-ul cu resurs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ricul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CE56-72A8-4F5C-8882-2C9DDEA10D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4960" y="802800"/>
            <a:ext cx="83628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5: Crearea publicaţiei propri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Cum încep elaborarea publicaţie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6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tilizaţi template-urile din CD resurse (Modulul 1 – Acvtivitatea 5) sau de pe site pentru a alege varianta cea mai potrivită proiectului dumneavoastră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tiliza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® Ghid de asistenţ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entru realizarea publicaţie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alvaţi cât mai des publicaţia în folder-ul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asistenţă_unitat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n directorul Portofoliu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2-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3: Adăugarea elementelor de bază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şi suplimentare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la publicaţia propr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7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tiliza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® Ghid de asistenţ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entru modificarea publicaţie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E1A3-6F6B-4778-9ABA-536185C6B5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7520" y="614520"/>
            <a:ext cx="8362800" cy="8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Revizuirea modul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1.29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90440" y="1565280"/>
            <a:ext cx="8678880" cy="4402080"/>
          </a:xfrm>
          <a:prstGeom prst="rect">
            <a:avLst/>
          </a:pr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98360" y="1630440"/>
            <a:ext cx="8651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</a:rPr>
              <a:t>Modul 1 Elemente chei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Cercetarea asupra învăţării şi predării indică importanţ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Acoperirii materiei de studiu în profunzim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Ideilor de bază pentru organizarea procesului de înţeleg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Evaluării continu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Sarcinilor semnificative, autenti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roiectele se axează pe scenarii care oferă numeroase oportunităţi de studiu. Acestea implică elevii în investigaţii de rezolvare a problemelor şi a altor sarcini importante. Proiectele realizează legătura cu viaţa de fiecare zi şi abordează probleme real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• </a:t>
            </a: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Paşii pentru realizarea proiectelor includ următoarele acţiuni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1. Stabilirea obiectivelor operaţiona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2. Dezvoltarea Întrebărilor care generează proiecte inter-pluri-transdsiplin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3. Realizarea unui plan de evalua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2e86"/>
                </a:solidFill>
                <a:latin typeface="Verdana"/>
              </a:rPr>
              <a:t>4. Proiectarea activităţil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6EE9-90D8-407D-92DE-CE526E8EF1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06840" y="371520"/>
            <a:ext cx="463716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6: Reflecţii asupra propriei învăţă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2: Introducerea opiniilor în Blog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(1.2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flectaţi asupra activităţilor, abilităţilor şi abordărilor din acest modul în blog-ul persona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Intraţi pe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en-US" sz="1400" spc="-1" strike="noStrike">
                <a:solidFill>
                  <a:srgbClr val="f5e647"/>
                </a:solidFill>
                <a:latin typeface="Verdana"/>
              </a:rPr>
              <a:t>[enter URL]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Adăugaţi la site-uri favorite adres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Logaţi-vă cu user-name-ul şi parola ce vi s-au furniza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flectaţi asupra modului în care acest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dul v-a ajutat să vă creaţi şi să vă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nificaţi Unitatea de învăţare.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proiectele să-i ajute pe elevii mei să atingă competenţele specifice şi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biectivele de referinţă şi să îşi dezvolte abilităţi le necesare în secolul XXI?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utiliza proiectele pentru a îmbunătăţi procesul de învăţare al elevilor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4429080" cy="6011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38320" y="100080"/>
            <a:ext cx="44053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dul 1 – Predarea prin proiecte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3D40-C987-4878-B396-95E71C1642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3000" y="673200"/>
            <a:ext cx="852156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lanificarea în ava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 1: Reflecţii asupra Planului Unităţii de învăţare şi asupra aspectului proiect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31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ăspundeţi la întrebările de la paginile 1.31 şi 1.32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asul 2: Vizarea abilităţilor de nivel superior şi cele necesare în secolul XXI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1.32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dentificaţ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bilităţi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de nivel superior şi cele necesare în secolul XX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aplicabile proiectului dumneavoastră răspunzând la întrebările de mai jo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introduce aceste abilităţi în unitatea mea de învăţare?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b ce formă acestea vor “lua viaţă” în clasă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Pasul 3: Localizarea resurselor materi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lectaţi material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cum ar fi manuale, materiale de sprijin, aşteptările de la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nivelul clasei, lista cu competenţe specifice-obiective de referinţă, exemple de aplicaţii ale elevilor etc.)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are vă vor ajuta să dezvoltaţi planul unităţii de învăţar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45E8-01E6-4BF6-9BEC-4A9FB62223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Ce urmează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45960" y="950760"/>
          <a:ext cx="8528040" cy="4530960"/>
        </p:xfrm>
        <a:graphic>
          <a:graphicData uri="http://schemas.openxmlformats.org/drawingml/2006/table">
            <a:tbl>
              <a:tblPr/>
              <a:tblGrid>
                <a:gridCol w="2803680"/>
                <a:gridCol w="5724360"/>
              </a:tblGrid>
              <a:tr h="57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BFD5-2A70-481E-8BA6-7F011DE9A1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2306-3F68-4B01-9A6E-27C48CE59C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12840" y="739800"/>
          <a:ext cx="8470800" cy="2716200"/>
        </p:xfrm>
        <a:graphic>
          <a:graphicData uri="http://schemas.openxmlformats.org/drawingml/2006/table">
            <a:tbl>
              <a:tblPr/>
              <a:tblGrid>
                <a:gridCol w="2415960"/>
                <a:gridCol w="60548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e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abilităţilor necesare în secolul XXI 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3476160"/>
            <a:ext cx="8510400" cy="259740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area esenţială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ate fi utilizată tehnologia în modul cel mai eficient pentru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usţine şi pentru a evalua achiziţiile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modulului</a:t>
            </a: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: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t să-i ajut pe elevi să atingă competenţele specific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/ obiectivele d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referinţă şi să îşi dezvolte abilităţile necesare în secolul XXI prin metod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proiectului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se pot utiliza proiectele pentru a îmbunătăţi procesul de învăţare 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0191-D88D-4334-9554-4F3C3A1C95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EB3F-3AA4-48D5-A767-EE84FD5DEE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 - P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rimii paş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ă facem cunoştinţ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troducerea trainer-ului şi a participanţilor. În prezentare trebuie inclu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Nume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rma de învăţământ, clas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/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lasele, precum şi disciplina de pred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are sunt aşteptările de la acest cu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29FF-EEEB-45D8-ADBE-777CD0F6FD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688680"/>
            <a:ext cx="8469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ctivitatea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1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- Primii paş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2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ezentarea cursului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Intel</a:t>
            </a:r>
            <a:r>
              <a:rPr b="1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Teach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– Predarea în societatea cunoaşterii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1.01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cursului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ă ajute cadrele didactice să utilizeze tehnologiile IT în stimularea imaginaţiei elevilor şi să le faciliteze transferul învăţării pentru viaţa de fiecare zi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in intermediu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sului veţi putea formula şi răspunde la întrebări cu privire la modalităţi eficiente de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tiliza calculatoarele pentru îmbunătăţirea procesul de predare- învăţare. Întrebare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enţială a cursului se poate formula astfel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Cum poate fi utilizată tehnologia în modul cel mai eficient pentru a sprijini şi a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evalua achiziţiile elevilor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copul nostru în ceea ce vă priveşte: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1.02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ste ca dumneavoastră să vă dezvoltaţi competenţa de a crea un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rtofoli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entru o unitate de învatare pe care apoi să îl utilizaţi la clasă pentru a ridic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ivelul de performanţă al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levilo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EC5D-CC35-480C-90E7-D1B010CC8F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4440" y="660240"/>
          <a:ext cx="8701200" cy="2625840"/>
        </p:xfrm>
        <a:graphic>
          <a:graphicData uri="http://schemas.openxmlformats.org/drawingml/2006/table">
            <a:tbl>
              <a:tblPr/>
              <a:tblGrid>
                <a:gridCol w="2803680"/>
                <a:gridCol w="58975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1: Predarea prin proiec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edarea prin proiec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i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ţelegerea imaginii de ansamblu a portofoliului şi a componenetelor s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a unei prezentări a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dentificarea abilităţilor necesare în secolul XXI aplicabile proiec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Dezvoltarea variantei iniţiale a planului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16000" y="3321000"/>
          <a:ext cx="8746920" cy="2625840"/>
        </p:xfrm>
        <a:graphic>
          <a:graphicData uri="http://schemas.openxmlformats.org/drawingml/2006/table">
            <a:tbl>
              <a:tblPr/>
              <a:tblGrid>
                <a:gridCol w="2874600"/>
                <a:gridCol w="58723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2: Planificarea unităţii de 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abor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ebărilor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generare a proiectelo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şi s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abilirea strategiei de evaluar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competenţelor specifice/obiectivelor de referinţ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 care generează proiecte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or strategii de evaluare continu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i în vederea evaluării iniţ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ostarea pe blog a reflecţiilor perso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12F3-7120-4CC8-AD00-1B90B83C5A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3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44440" y="546120"/>
          <a:ext cx="8701200" cy="297828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3: Realizarea conexiun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Internetului ca mijloc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 a predării şi învăţă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wiki pentru a facilita schimbul de idei şi cooperare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legii drepturilor de autor şi utilizarea corectă a informaţi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ui document care să cuprindă lucrările cit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ntegrarea resurselor de pe Internet în unitatea de învăţare pentru a sprijini documentarea, comunicarea, colaborarea, rezolvarea problemelor şi/sau alte abilităţi necesare în secolul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unei resurse de colaborare on-line în scopul de a discuta despre unităţile de învăţar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16000" y="3535200"/>
          <a:ext cx="8746920" cy="255276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4: Crearea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plicaţiei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tilizarea TI pentru realizare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unor aplicaţii din perspectiv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lev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strategiilor pentru utilizarea sigură, responsabilă şi corespunzătoare a Internetului de cătr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or aplicaţii ale elevilor (publicaţii ale elevilor, a unei prezentări, wiki sau blog pentru a demonstra procesul de învăţare al elevilo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oiectarea procedurilor de instruire pentru unitatea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</a:t>
                      </a:r>
                      <a:r>
                        <a:rPr b="0" i="1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plicaţiei elevului</a:t>
                      </a: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8709-B4D8-4A12-866F-301BD9D586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4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44440" y="546120"/>
          <a:ext cx="8701200" cy="319392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7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5: Evaluarea proiectelor elev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evalu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ative şi suma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bţinerea de feed-back pentru a îmbunătăţi 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plicaţiile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căilor de implicare elevilor în procesul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practicilor de evalu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zumatul evaluarii pentru unitatea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unei evaluări sumative a </a:t>
                      </a:r>
                      <a:r>
                        <a:rPr b="0" i="1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plicaţiilor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exemplelor produse din perspectiva elevilor în baza evaluării suma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16000" y="3773520"/>
          <a:ext cx="8746920" cy="228924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6: Planificare pentru diferenţierea instruir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prijinirea elevilor în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cesul auto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ări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pentru instruire diferenţiat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evaluări care sa încurajeze auto-formarea elevulu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pentru sprijinirea elevi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 pentru a include un spatiu de acomodare şi manifestare pentru toţi elevi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blog-ul perso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045B-1080-4D6A-BE85-4BC495535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Modul 1 – Predarea prin proiecte</a:t>
            </a:r>
            <a:r>
              <a:rPr b="0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Activitatea </a:t>
            </a:r>
            <a:r>
              <a:rPr b="1" lang="en-US" sz="1500" spc="-1" strike="noStrike">
                <a:solidFill>
                  <a:srgbClr val="0860a8"/>
                </a:solidFill>
                <a:latin typeface="Verdana"/>
                <a:ea typeface="Arial"/>
              </a:rPr>
              <a:t>1</a:t>
            </a:r>
            <a:r>
              <a:rPr b="1" lang="ro-RO" sz="1500" spc="-1" strike="noStrike">
                <a:solidFill>
                  <a:srgbClr val="0860a8"/>
                </a:solidFill>
                <a:latin typeface="Verdana"/>
                <a:ea typeface="Arial"/>
              </a:rPr>
              <a:t> - Primii paşi (1.05)</a:t>
            </a:r>
            <a:endParaRPr b="1" lang="en-US" sz="15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4440" y="546120"/>
          <a:ext cx="8701200" cy="3019320"/>
        </p:xfrm>
        <a:graphic>
          <a:graphicData uri="http://schemas.openxmlformats.org/drawingml/2006/table">
            <a:tbl>
              <a:tblPr/>
              <a:tblGrid>
                <a:gridCol w="2527200"/>
                <a:gridCol w="6174000"/>
              </a:tblGrid>
              <a:tr h="367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7: Facilitare pentru integrarea tehnologi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ţelegerea calităţii de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acilitator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ofesor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xplorarea strategiilor de interogare pentru formarea abilităţilor de gândire de nivel super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abilităţii de facilitator într-un proces de instruire centrat pe e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alizarea de materiale necesare pentru facilitarea procesulu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vizuirea planului unităţii de învăţ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Auto-evaluarea portofoliului unităţii de învăţare şi apoi revizuirea acestu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în blog-ul personal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Localizarea resurselor de pe Internet pentru profeso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16000" y="3598920"/>
          <a:ext cx="8746920" cy="2388960"/>
        </p:xfrm>
        <a:graphic>
          <a:graphicData uri="http://schemas.openxmlformats.org/drawingml/2006/table">
            <a:tbl>
              <a:tblPr/>
              <a:tblGrid>
                <a:gridCol w="2541600"/>
                <a:gridCol w="6205320"/>
              </a:tblGrid>
              <a:tr h="34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8: Prezentarea portofoli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ul central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chimb de exprienţă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u privire la propri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văţ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iscutarea modului în care se face managementul tehnologiei în instruirea elevilo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documentelor de managemen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Pregătirea pentru prezent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Oferirea şi primirea de feed-back cu privire la portofoli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 în blog-ul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buClr>
                          <a:srgbClr val="0860a8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valuarea cursului Intel®Teach – Predarea în societatea cunoaşter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1E0E-C084-4561-B783-B5025F3537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Filonela Rodica Balasa</cp:lastModifiedBy>
  <cp:lastPrinted>2006-11-14T00:45:04Z</cp:lastPrinted>
  <dcterms:modified xsi:type="dcterms:W3CDTF">2007-08-20T13:18:54Z</dcterms:modified>
  <cp:revision>155</cp:revision>
  <dc:subject/>
  <dc:title>Presentation Title Goes Here</dc:title>
</cp:coreProperties>
</file>